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FBF-7CCD-4868-80A8-62DB89F4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DD8-3DB8-4114-BA9B-D7ABE6FB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162-A99C-40A8-B651-A520F5C7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A2C-BDBF-4A8C-B212-DFE30E16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8FB7-C22F-4929-902D-89D8BBA3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8C18-55A9-477E-A708-545AF4AD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4602-1B7F-435E-8BEC-630F5268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D030-4BF6-432F-9330-8A69AFA0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397A-EF04-4AE1-B5B4-2307DB94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AA74-8731-4415-9092-95EC32DC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E211-C606-4766-8B3F-F61F3054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D8F-17BD-47D5-BD1F-6F27398B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F05E-C170-492A-8136-983B612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778A-AAC6-4E41-A189-CB97A7A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FB2E-3164-42C8-AA37-21D0F49E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803E-6E5E-428A-8108-E436DBCF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29C6-553A-44F6-8E46-04A92F16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748-867B-4634-B8A6-7A92A011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534-BDFD-4D74-8ECA-A7529516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B3C-537E-49AF-82D7-F9ABB8AB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66B-4FE9-4C7C-BC67-B77BCA04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201-0723-4F28-92FD-017A9B4D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74B-2DBC-4298-B6F6-B455900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1A9-2DD6-4175-BAC6-CF835F7B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FD43-8C1B-4858-B468-90D28594C3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69A4-405A-4EE6-B380-6C281ECA3A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b2b2b2"/>
                </a:solidFill>
                <a:latin typeface="Arial"/>
              </a:rPr>
              <a:t>Poetry</a:t>
            </a:r>
            <a:endParaRPr b="0" lang="en-US" sz="77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rritating Say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sn’t it about time you thought about bed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t must be somewhe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You speak to him Harold, he won’t listen to m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o do you think I am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You’d better ask your fath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t’s late enough as it 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n’t eat with your mouth ope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 this day and ag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id anybody ask your opin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 remember when I was a bo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d after all we do for yo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You’re not talking to your school friends now, you kn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y don’t you do it the proper w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’m only trying to tell yo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at did I just say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ow, wrap up war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-E-D spells b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t up straight and don’t gobble your foo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r the five hundredth ti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n’t let me ever see you do that agai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ave you made your bed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n’t you look further than your nose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o more li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ave you done your homework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cause I say s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n’t come those fancy ways he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y more and you’ll be in b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y, haven’t you grow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ome day I won’t be here, then you’ll se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chair’s for sitting 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You shouldn’t need telling at your a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ant, want, want, that’s all you ever s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rritating Sayings (cont’d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hyme Sche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of rhyme in a stanza or poem.  You can identify the rhyme scheme in stanzas by looking at the last word in the line and assigning letters to the rhyming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sun behi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ou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darkness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grass beneath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e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tepped into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Rhyme Scheme Practice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knew I’d have to grow up sometim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my childhood memories would en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a spark within me die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lost my imaginary friend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sun set and the moon cam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ooked out the window in dread and sham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und of birds rose from the sky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ved my hand and bid goodby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look into his eye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ee the deep blue se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ope my love never die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e’ll always be there for m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re ends the sag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writers who have grow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re successful author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e will be unknow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Rhyme Scheme Practice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mile Poem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ejudice by Kimberly Harm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judice is like the feeling you 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’re left out of a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like the music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ashell: hollow and di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when you never reach the front do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being turned away at the first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Metaphor Line-by-Line Poem</a:t>
            </a:r>
            <a:br>
              <a:rPr sz="3000"/>
            </a:b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The Highwayman by Alfred Noyes (excerpt)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wind was a torrent of darkness among the gusty trees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oon was a ghostly galleon tossed upon cloudy seas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oad was a ribbon of moonlight over the purple moor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he highwayman came riding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ding-riding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highwayman came riding, up to the old inn doo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mile Line-by-Line Example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ream Deferred by Langston Hug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to a dream defer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it dry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 raisin in the su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fester like a sor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n ru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it stink like rotten me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crust and sugar over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 syrupy swe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be it just sags like a heavy lo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does it explo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ne-by-Line Metaph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sore, festering and bubbling on the hea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single-leafed tree, its owner weak and al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wilted rose, time has worn it from beauty to wretched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zit, ready to bur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the Hulk, small when calm, huge and fierce when agit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snake, it swallows its enemies who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birthday party, it can take you by surpri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tree, it stands the test of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rubber band, it will snap when pulled too h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te is a deadly disease, something you don’t want to cat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etaphor Poem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etaphor Poem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tended Metaph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te is a z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rned by debris, dirt, oil, gr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cked into a 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a filthy wor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begins beneath the su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n pokes out its disgusting he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kes the face turn 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d grows and grow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til fina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explod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ere Were You Yesterday?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o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terday it rained, and I stood out in it hoping by chance that you’d just happen to come outside.  But I knew that if you did come out, we’d never be like we were before.  Maybe it’s a good thing you didn’t come out.  Besides who comes out in the rain anymore just to tal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Alliteration</a:t>
            </a:r>
            <a:br>
              <a:rPr sz="3000"/>
            </a:br>
            <a:r>
              <a:rPr b="0" lang="en-US" sz="3000" spc="-1" strike="noStrike" u="sng">
                <a:solidFill>
                  <a:srgbClr val="b2b2b2"/>
                </a:solidFill>
                <a:uFillTx/>
                <a:latin typeface="Arial"/>
              </a:rPr>
              <a:t>C</a:t>
            </a: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afeteria </a:t>
            </a:r>
            <a:r>
              <a:rPr b="0" lang="en-US" sz="3000" spc="-1" strike="noStrike" u="sng">
                <a:solidFill>
                  <a:srgbClr val="b2b2b2"/>
                </a:solidFill>
                <a:uFillTx/>
                <a:latin typeface="Arial"/>
              </a:rPr>
              <a:t>C</a:t>
            </a: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haos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er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tomach grow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les h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e plac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c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er towe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o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th grade teach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w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ely 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ps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s dow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Onomatopoeia Poem</a:t>
            </a:r>
            <a:br>
              <a:rPr sz="3000"/>
            </a:b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What Some People Do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7086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ibber, jabber, gabble, bab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kle, clack, and prate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iddle, twaddle, mutter, stut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tter, splutter, blate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atter, patter, tattle, prattle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w the rag and crack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iel and spout and spit it out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ll the world and quack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niffle, snuffle, drawl and bawl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nicker, snort, and snap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rk and buzz and yap and yelp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in and chip and cha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t and shoot and gargle, gas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b and gag and groa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 and haw and work the jaw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mble, mumble, moa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ef and bellyache and ba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a mouthful, squaw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s what some people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y merely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Onomatopoeia Poem</a:t>
            </a:r>
            <a:br>
              <a:rPr sz="3000"/>
            </a:b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What Some People Do (cont’d)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ere Were You Yesterday?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oetr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142640"/>
            <a:ext cx="6705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terday it 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 stood out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you’d just happen to come out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knew that if you did come ou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’d never be like we were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it’s a good 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didn’t come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omes out in the 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to tal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se        Vs.       Poe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hy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attern/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ine di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use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arget e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sions are para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ymed/Unrhy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s a beat/has 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 di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images to focus on a particular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s emotions through use of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sions are stan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etry 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mula poet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Poems that must follow certain guidelines (and, most of the time, a certain rhyme scheme) to be classified as a particular kind of 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hyme Sche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Pattern made by how poem rhymes at the end of a line-letters assigned to lines according to end rhy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etry 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Alliterat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Repetition of the same sounds at the beginning of words in a poem (ex. My mom made my Monday more magnificent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Onomatopoei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Words that imitate sounds (ex. pow, bang, pop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njambmen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Continuation of a complete thought/idea from one line to the nex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oetry Vocabular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Assonanc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Repetition of the same sounds in a line (ex.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Sau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was filled with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aw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ver Mardi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Gra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nd Rhy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How poem rhymes at the ends of l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Stanz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Lines of poetry that form a division in the po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oetry Vocabular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di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ords are not meant to be taken word for word (ex. You are pulling my leg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te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Words are meant to be taken word for w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motion or feelings author felt or wants audience to feel while reading poem (aka m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 Can’t Write a Poem” po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get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ust be kid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still half asle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eyes keep clo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brain isn’t wor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’t have a penc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’t have any pap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esk is wobb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’t know what to write ab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esides, I don’t even know how to write a po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ve got a headache.  I need to see the n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’s up?  Uh o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I have is this dumb list of exc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ke it?  Really?  No kid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s a l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you like to see another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Bruce Lan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6:42:06Z</dcterms:created>
  <dc:creator>MIS</dc:creator>
  <dc:description/>
  <dc:language>en-US</dc:language>
  <cp:lastModifiedBy>Hilary Wiltshire</cp:lastModifiedBy>
  <dcterms:modified xsi:type="dcterms:W3CDTF">2011-02-25T15:28:27Z</dcterms:modified>
  <cp:revision>72</cp:revision>
  <dc:subject/>
  <dc:title>Poetry</dc:title>
</cp:coreProperties>
</file>